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9FF-3CB4-42ED-99A9-BD4F31AC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643-27A3-404B-A096-CF98404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4BC-EAB1-4DA3-85E2-65FDACEB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1CE-03F6-4D8D-8ED1-B18CC9C1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173-280B-4D81-B7B5-1A3E6748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FA6-FB8C-4D82-8AEC-0658349E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12D-33C2-4521-8E89-AFE0AB9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812-E9ED-43CA-AF5C-007304F5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15A-D393-4641-9F8D-69552C07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74A-B317-4E6F-9091-C68A2B8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707-4E18-4396-B466-0CE360FD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1F1-D6A6-4815-87DF-607A7020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323-B29D-4458-9542-5ACFF6C47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VSD</cp:lastModifiedBy>
  <dcterms:modified xsi:type="dcterms:W3CDTF">2009-06-17T14:06:19Z</dcterms:modified>
  <cp:revision>40</cp:revision>
  <dc:subject/>
  <dc:title>No Slide Title</dc:title>
</cp:coreProperties>
</file>