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DA8-2A02-4830-BA4F-E7E405D8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AA1-548C-4036-8B17-9AFD0D63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59E-F6A5-4737-A7AB-B2C04E75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FE1-C1F3-4FA5-85F9-0D11E621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339-ED43-4E61-8079-A38231CB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0B8-1FBE-46A2-A496-F9C06054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8E1-664B-4C1E-A996-8C6BA13B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8D9-3756-4E13-A72C-345BDF8C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2E1-7ED0-4380-9C47-1A9E37F0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668-0B68-442B-A1D1-957F2AD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0A6-9FFF-452C-AC03-45D3762E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F39-9E91-48A6-B965-48FA95C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3BFE-871F-4FE5-9E22-E8680793F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CVSD</cp:lastModifiedBy>
  <dcterms:modified xsi:type="dcterms:W3CDTF">2009-06-17T14:06:19Z</dcterms:modified>
  <cp:revision>40</cp:revision>
  <dc:subject/>
  <dc:title>No Slide Title</dc:title>
</cp:coreProperties>
</file>