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445-1980-4C17-82AC-1718B74D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EC3-EC37-4678-8971-5CBCB6F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B6B-D559-4A26-942D-3896C53D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0F5-8DD4-46AC-B8AB-8D6DB547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75B-0686-4DEF-AE50-4F141DEF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152-4D9E-4316-AEE0-09E4FE5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1A1-931D-49EE-99DC-34B6851E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DA8-8CF2-4AE5-AA35-168B912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B58-6D1D-4097-8EB9-B35B7DDC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D7D-C5CC-45D2-98D9-FCCCEAF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260-A3CA-4C48-8942-BFE05C8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BC0-D2DA-4686-B053-2CD6D94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EC6-AC4B-4EDF-8A2F-8B0D2A15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VSD</cp:lastModifiedBy>
  <dcterms:modified xsi:type="dcterms:W3CDTF">2009-06-17T14:06:19Z</dcterms:modified>
  <cp:revision>40</cp:revision>
  <dc:subject/>
  <dc:title>No Slide Title</dc:title>
</cp:coreProperties>
</file>